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649F-83E7-4135-A760-8A2FC04D1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C2E21-063D-487A-A7D4-5738E8DE6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6508-2DC6-44AB-9112-1AF913220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23E58-1067-4BC8-AFA6-78C71F2C7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32575-E66E-4F4B-B715-3B5677C334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27423-BA06-46FF-848B-DF98F92AD2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FF73E-C525-4A59-9C55-381E844123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2600A-543A-46A2-ADF1-CDFFAD3457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944E4-0499-4B97-B1D9-7927A7530B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151AD-A622-4F89-8C3C-D6ECDA7BBC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1C642-DDE7-4CA2-8CD0-E00AD78590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CCF4E-0CC5-4C66-9B49-38986A5FA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69B65-3D50-45EC-8410-7B15C43A58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EA238-A2DE-4F43-A7C7-FE499557F3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B10C1-8270-4497-8B0D-3135443CAF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B1BEE-4FDF-4F5B-B4B7-E85AA644AD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A541C-26E7-42FB-B10B-FB0F98F8C8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85AA6-E806-4D24-BDAE-A44C9AEEF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DEAD4-5350-492D-BA8F-40D462456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1D0C-2314-4C34-A465-77B4FAEA1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8E694-B45E-457F-B344-935C9A13A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4FB1-8475-45A5-B150-B3E2F966B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B6721-DBB9-407E-B57C-59D67129A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DFE32-B349-4DEE-9434-687C6FCD7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AF9B962-3965-4AF0-AA3B-6E17F19C923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5DB7BC5-CA26-4894-9377-919103FDBBD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C44ACFB-E490-46A0-B3BB-9481EB7DBB4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2B7E9E9-445B-45B2-999F-EB1D32FB992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BFE3-597C-4DE5-8B03-1716B6576918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3-12-06T13:01:21Z</dcterms:modified>
  <cp:revision>331</cp:revision>
  <dc:subject/>
  <dc:title>No Slide Title</dc:title>
</cp:coreProperties>
</file>